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4.png" ContentType="image/png"/>
  <Override PartName="/ppt/media/image10.jpeg" ContentType="image/jpeg"/>
  <Override PartName="/ppt/media/image2.gif" ContentType="image/gi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1A4-C034-428E-90BE-9495EA64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91D-2D5E-447F-80EB-3D186EE4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D25F-2FC5-4EF1-AD21-0252C46F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66A4-4BEC-4EEE-8061-C0B9A2A8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5F4D-2ED6-4205-B705-9F3CEE09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46B6-E3F4-4601-B1C9-38DAC1C0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0B80-7534-4F2A-A3F0-DD27D5A2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0F66-CEA2-4B69-A5F4-113A1934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244-E9B8-4514-B052-9DEE6D4E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95AC-AE4E-41C6-B79F-7FC6E40D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AF24-4B43-4348-A5F0-07E31F2A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F507-2EFE-4249-B370-271EB13E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E7CB1-F2D7-4168-AE67-715DF98D234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280" y="1282320"/>
            <a:ext cx="9070920" cy="19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6000" spc="-1" strike="noStrike">
                <a:solidFill>
                  <a:srgbClr val="ff3333"/>
                </a:solidFill>
                <a:latin typeface="Lucida Handwriting"/>
              </a:rPr>
              <a:t>American &amp; British</a:t>
            </a:r>
            <a:br>
              <a:rPr sz="6000"/>
            </a:br>
            <a:r>
              <a:rPr b="0" lang="it-IT" sz="6000" spc="-1" strike="noStrike">
                <a:solidFill>
                  <a:srgbClr val="ff3333"/>
                </a:solidFill>
                <a:latin typeface="Lucida Handwriting"/>
              </a:rPr>
              <a:t>Pr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659280" y="526680"/>
            <a:ext cx="2879640" cy="703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c5000b"/>
                </a:solidFill>
                <a:latin typeface="Blackadder ITC"/>
              </a:rPr>
              <a:t>English project by Chiara Cirillo &amp; Irene Pape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199280" y="2700360"/>
            <a:ext cx="2160720" cy="2519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60360" y="3419640"/>
            <a:ext cx="3060720" cy="3860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155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1155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8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115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8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115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8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640" y="900000"/>
            <a:ext cx="5291280" cy="6120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n Britain and also in America there are a lot of newspeaper but which treat about politics? Which about business? Which about gossip? Which about sport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299280" y="720720"/>
            <a:ext cx="3779640" cy="5759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336600"/>
            <a:ext cx="9899640" cy="1192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The American Press</a:t>
            </a:r>
            <a:br>
              <a:rPr sz="4400"/>
            </a:br>
            <a:r>
              <a:rPr b="1" i="1" lang="it-IT" sz="3200" spc="-1" strike="noStrike">
                <a:solidFill>
                  <a:srgbClr val="b84700"/>
                </a:solidFill>
                <a:latin typeface="Comic Sans MS"/>
              </a:rPr>
              <a:t>Which kind of journal do american people 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23004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WSPAP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- The New York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- The Wall Street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- USA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- The Washington P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9280" y="5400720"/>
            <a:ext cx="3060720" cy="1995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19640" y="2030400"/>
            <a:ext cx="3419640" cy="517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79640" y="313920"/>
            <a:ext cx="6119640" cy="62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2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ndalus"/>
              </a:rPr>
              <a:t>NAGAZINES &amp; TABLOI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ndalus"/>
              </a:rPr>
              <a:t>- New York P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ndalus"/>
              </a:rPr>
              <a:t>- New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ndalus"/>
              </a:rPr>
              <a:t>- The O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ndalus"/>
              </a:rPr>
              <a:t>- The New Y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ndalus"/>
              </a:rPr>
              <a:t>- Time &amp; News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ndalus"/>
              </a:rPr>
              <a:t>- Rolling 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ndalus"/>
              </a:rPr>
              <a:t>- People, US weekly, In To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60360" y="598320"/>
            <a:ext cx="3240000" cy="3002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0"/>
            <a:ext cx="9070920" cy="1898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400" spc="-1" strike="noStrike">
                <a:solidFill>
                  <a:srgbClr val="3deb3d"/>
                </a:solidFill>
                <a:latin typeface="Arial"/>
              </a:rPr>
              <a:t>The British Press</a:t>
            </a:r>
            <a:br>
              <a:rPr sz="5400"/>
            </a:br>
            <a:r>
              <a:rPr b="0" lang="it-IT" sz="4000" spc="-1" strike="noStrike">
                <a:solidFill>
                  <a:srgbClr val="33cc66"/>
                </a:solidFill>
                <a:latin typeface="Arial"/>
              </a:rPr>
              <a:t>The readers could choose between “quality” newspapers or tabloi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8920" y="2879280"/>
            <a:ext cx="59403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666666"/>
                </a:solidFill>
                <a:latin typeface="Bradley Hand ITC"/>
              </a:rPr>
              <a:t>QUALITY NEWSPAPERS</a:t>
            </a:r>
            <a:r>
              <a:rPr b="1" lang="it-IT" sz="4000" spc="-1" strike="noStrike">
                <a:solidFill>
                  <a:srgbClr val="666666"/>
                </a:solidFill>
                <a:latin typeface="Bradley Hand ITC"/>
              </a:rPr>
              <a:t> </a:t>
            </a:r>
            <a:r>
              <a:rPr b="1" i="1" lang="it-IT" sz="4000" spc="-1" strike="noStrike">
                <a:solidFill>
                  <a:srgbClr val="666666"/>
                </a:solidFill>
                <a:latin typeface="Bradley Hand ITC"/>
              </a:rPr>
              <a:t>a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4000" spc="-1" strike="noStrike">
                <a:solidFill>
                  <a:srgbClr val="666666"/>
                </a:solidFill>
                <a:latin typeface="Bradley Hand ITC"/>
              </a:rPr>
              <a:t>- The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4000" spc="-1" strike="noStrike">
                <a:solidFill>
                  <a:srgbClr val="666666"/>
                </a:solidFill>
                <a:latin typeface="Bradley Hand ITC"/>
              </a:rPr>
              <a:t>- The Guard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4000" spc="-1" strike="noStrike">
                <a:solidFill>
                  <a:srgbClr val="666666"/>
                </a:solidFill>
                <a:latin typeface="Bradley Hand ITC"/>
              </a:rPr>
              <a:t>- The Indipend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2158920"/>
            <a:ext cx="395928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60720" y="720360"/>
            <a:ext cx="4500720" cy="648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4000"/>
          </a:bodyPr>
          <a:p>
            <a:pPr marL="405720" indent="-30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pperplate Gothic Bold"/>
              </a:rPr>
              <a:t>TABLOI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11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5400" spc="-1" strike="noStrike">
                <a:solidFill>
                  <a:srgbClr val="000000"/>
                </a:solidFill>
                <a:latin typeface="Curlz MT"/>
              </a:rPr>
              <a:t>- Daily Mai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11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5400" spc="-1" strike="noStrike">
                <a:solidFill>
                  <a:srgbClr val="000000"/>
                </a:solidFill>
                <a:latin typeface="Curlz MT"/>
              </a:rPr>
              <a:t>- Daily Expr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11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5400" spc="-1" strike="noStrike">
                <a:solidFill>
                  <a:srgbClr val="000000"/>
                </a:solidFill>
                <a:latin typeface="Curlz MT"/>
              </a:rPr>
              <a:t>- Daily Mirr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11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5400" spc="-1" strike="noStrike">
                <a:solidFill>
                  <a:srgbClr val="000000"/>
                </a:solidFill>
                <a:latin typeface="Curlz MT"/>
              </a:rPr>
              <a:t>- Daily St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11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5400" spc="-1" strike="noStrike">
                <a:solidFill>
                  <a:srgbClr val="000000"/>
                </a:solidFill>
                <a:latin typeface="Curlz MT"/>
              </a:rPr>
              <a:t>- Su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2519640" cy="341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738920" y="3959280"/>
            <a:ext cx="234000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960120"/>
            <a:ext cx="907092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Lucida Handwriting"/>
              </a:rPr>
              <a:t>There are also the “popular Sunday” and the “quality Sunday” newspap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920" y="3779640"/>
            <a:ext cx="547236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Felix Titling"/>
              </a:rPr>
              <a:t>Sunday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Felix Titling"/>
              </a:rPr>
              <a:t>Sunday Tele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Felix Titling"/>
              </a:rPr>
              <a:t>Ob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759280" y="3780000"/>
            <a:ext cx="414036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193400"/>
            <a:ext cx="907092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We could find a lot of weekly and monthly magazines specialized i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0360" y="2839680"/>
            <a:ext cx="9070920" cy="183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Bradley Hand ITC"/>
              </a:rPr>
              <a:t>Astrology, computers, science, cookery, fashion and so on (</a:t>
            </a:r>
            <a:r>
              <a:rPr b="1" i="1" lang="it-IT" sz="3600" spc="-1" strike="noStrike">
                <a:solidFill>
                  <a:srgbClr val="000000"/>
                </a:solidFill>
                <a:latin typeface="Bradley Hand ITC"/>
              </a:rPr>
              <a:t>Time Out</a:t>
            </a:r>
            <a:r>
              <a:rPr b="1" lang="it-IT" sz="3600" spc="-1" strike="noStrike">
                <a:solidFill>
                  <a:srgbClr val="000000"/>
                </a:solidFill>
                <a:latin typeface="Bradley Hand ITC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879640" y="4319640"/>
            <a:ext cx="4500720" cy="30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2:05:05Z</dcterms:created>
  <dc:creator>chiara cirillo</dc:creator>
  <dc:description/>
  <dc:language>en-US</dc:language>
  <cp:lastModifiedBy>chiara cirillo</cp:lastModifiedBy>
  <dcterms:modified xsi:type="dcterms:W3CDTF">2009-02-25T22:49:06Z</dcterms:modified>
  <cp:revision>4</cp:revision>
  <dc:subject/>
  <dc:title/>
</cp:coreProperties>
</file>